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C3A-6ABF-4D45-9C62-2CF3CD37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057-DC81-4F62-B60B-4FFE491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40E-3AB4-44F0-BC8D-3439157F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3B4-A7EF-4BC7-968B-D44ED50B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227-F4F8-438E-8E0C-6BA8C67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FA7-AD80-4B70-9E8F-A7FE8EDF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F22-622F-4AD3-AA6C-993C7ED3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616-DDAB-4AEF-A955-FE12718F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5FD-43E3-41F3-AA85-5DD2C71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BCB-9283-4371-92E3-8748406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6C5-2EAA-450C-94A4-0E2A978D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FE8-5C6D-4E46-A539-C4C83AE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8A5-47F6-431C-B037-D851332A0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22920" y="3860640"/>
            <a:ext cx="444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Время не любит, когд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его тратят впусту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енри Фо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340000" y="1052640"/>
            <a:ext cx="482436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807"/>
                </a:solidFill>
                <a:latin typeface="Calibri"/>
              </a:rPr>
              <a:t>МОДЕЛИТЕОРИИ расписани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611280" y="170028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СПАСИБО ЗА  РАБОТ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Д/З   </a:t>
            </a:r>
            <a:r>
              <a:rPr b="1" lang="en-US" sz="4000" spc="-1" strike="noStrike">
                <a:solidFill>
                  <a:srgbClr val="984807"/>
                </a:solidFill>
                <a:latin typeface="Calibri"/>
              </a:rPr>
              <a:t>$3.4.3, 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стр 261 задание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письменно(диаграммы Ган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2700360" y="326880"/>
            <a:ext cx="63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сматривает комплексы раб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вязанных общ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ъектом или общим исполнител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аправленные на достижение общей це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79280" y="333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Теория распис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-436680" y="2276640"/>
            <a:ext cx="32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одел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2882880" y="2349360"/>
            <a:ext cx="60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- составить расписание работ для достижения наиболее дешевого или наиболее быстрого порядка выполнения раб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-380880" y="4292640"/>
            <a:ext cx="32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риме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2843280" y="4292640"/>
            <a:ext cx="60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писание движения поез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афик занятости персон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лендарный план строитель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лендарь иг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писание уроков и 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663560" y="898560"/>
            <a:ext cx="64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енри Форд (1863 —194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лава кампани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«Ford Motor Company»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впервые стал использовать промышленный конвейер для поточного производства автомобиле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а основе принципов научной организации тру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826920" y="2000160"/>
            <a:ext cx="808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вейер – это способ организации производства, при которо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 производства разделяется на отдельные операции (стад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временно в производстве находится несколько издел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ящиеся на различных стади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готовле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 выполнение независимых операций параллель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33360" y="111240"/>
            <a:ext cx="1306440" cy="1911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upload.wikimedia.org/wikipedia/commons/9/9c/Ford_fertigung_1923.jpg"/>
          <p:cNvPicPr/>
          <p:nvPr/>
        </p:nvPicPr>
        <p:blipFill>
          <a:blip r:embed="rId2"/>
          <a:stretch/>
        </p:blipFill>
        <p:spPr>
          <a:xfrm>
            <a:off x="142920" y="3716280"/>
            <a:ext cx="3819600" cy="298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defence.ru/assets/content/paragraph/8922/42837/epsg-pr12182-comau-1-1120x0.jpg"/>
          <p:cNvPicPr/>
          <p:nvPr/>
        </p:nvPicPr>
        <p:blipFill>
          <a:blip r:embed="rId3"/>
          <a:stretch/>
        </p:blipFill>
        <p:spPr>
          <a:xfrm>
            <a:off x="4140360" y="3713040"/>
            <a:ext cx="4476600" cy="2984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879560" y="1112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Конвейерное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775600" y="115920"/>
            <a:ext cx="33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Диаграмма Ганта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Небольшой рассказ о Генри Ганте"/>
          <p:cNvPicPr/>
          <p:nvPr/>
        </p:nvPicPr>
        <p:blipFill>
          <a:blip r:embed="rId1"/>
          <a:srcRect l="29802" t="0" r="0" b="0"/>
          <a:stretch/>
        </p:blipFill>
        <p:spPr>
          <a:xfrm>
            <a:off x="30240" y="917640"/>
            <a:ext cx="1996920" cy="1704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027160" y="917640"/>
            <a:ext cx="73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енри Лоренс Гант (Henry Laurence Gantt) (1861-1919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американский инженер-механи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Диаграммы Ганта продолжают оставаться важнейшим инструментом в управлении проектами.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rjob.ru/upload/medialibrary/2a9/2a9f2da8dfda41963f41bf84f52ea105.gif"/>
          <p:cNvPicPr/>
          <p:nvPr/>
        </p:nvPicPr>
        <p:blipFill>
          <a:blip r:embed="rId2"/>
          <a:stretch/>
        </p:blipFill>
        <p:spPr>
          <a:xfrm>
            <a:off x="1258920" y="2622600"/>
            <a:ext cx="7051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good-reklama.ru/images/osnovymarketinga/image300.jpg"/>
          <p:cNvPicPr/>
          <p:nvPr/>
        </p:nvPicPr>
        <p:blipFill>
          <a:blip r:embed="rId1"/>
          <a:stretch/>
        </p:blipFill>
        <p:spPr>
          <a:xfrm>
            <a:off x="1476360" y="2924280"/>
            <a:ext cx="5718240" cy="40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Lo3.GIF (683×187)"/>
          <p:cNvPicPr/>
          <p:nvPr/>
        </p:nvPicPr>
        <p:blipFill>
          <a:blip r:embed="rId2"/>
          <a:stretch/>
        </p:blipFill>
        <p:spPr>
          <a:xfrm>
            <a:off x="108000" y="476280"/>
            <a:ext cx="88725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060560" y="18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Задача о двух стан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920" y="911160"/>
            <a:ext cx="460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ребуется изготовить 5 детале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абатывая каждую последовательно на двух станках сначал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на перв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затем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на вто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Время обработки каждой детали на каждом станке извест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ь расписание работы станков с минимальными затратами времени на обработку детале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76720" y="1125360"/>
          <a:ext cx="3888000" cy="4511880"/>
        </p:xfrm>
        <a:graphic>
          <a:graphicData uri="http://schemas.openxmlformats.org/drawingml/2006/table">
            <a:tbl>
              <a:tblPr/>
              <a:tblGrid>
                <a:gridCol w="1224000"/>
                <a:gridCol w="1251000"/>
                <a:gridCol w="1413000"/>
              </a:tblGrid>
              <a:tr h="809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дет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141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7-конечная звезда 70"/>
          <p:cNvSpPr/>
          <p:nvPr/>
        </p:nvSpPr>
        <p:spPr>
          <a:xfrm>
            <a:off x="4863960" y="376200"/>
            <a:ext cx="854280" cy="717480"/>
          </a:xfrm>
          <a:custGeom>
            <a:avLst/>
            <a:gdLst/>
            <a:ahLst/>
            <a:rect l="l" t="t" r="r" b="b"/>
            <a:pathLst>
              <a:path w="854075" h="717550">
                <a:moveTo>
                  <a:pt x="-2" y="461461"/>
                </a:moveTo>
                <a:lnTo>
                  <a:pt x="131517" y="319342"/>
                </a:lnTo>
                <a:lnTo>
                  <a:pt x="84580" y="142120"/>
                </a:lnTo>
                <a:lnTo>
                  <a:pt x="295520" y="142120"/>
                </a:lnTo>
                <a:lnTo>
                  <a:pt x="427038" y="0"/>
                </a:lnTo>
                <a:lnTo>
                  <a:pt x="558555" y="142120"/>
                </a:lnTo>
                <a:lnTo>
                  <a:pt x="769495" y="142120"/>
                </a:lnTo>
                <a:lnTo>
                  <a:pt x="722558" y="319342"/>
                </a:lnTo>
                <a:lnTo>
                  <a:pt x="854077" y="461461"/>
                </a:lnTo>
                <a:lnTo>
                  <a:pt x="664025" y="540332"/>
                </a:lnTo>
                <a:lnTo>
                  <a:pt x="617086" y="717554"/>
                </a:lnTo>
                <a:lnTo>
                  <a:pt x="427038" y="638682"/>
                </a:lnTo>
                <a:lnTo>
                  <a:pt x="236989" y="717554"/>
                </a:lnTo>
                <a:lnTo>
                  <a:pt x="190050" y="540332"/>
                </a:lnTo>
                <a:lnTo>
                  <a:pt x="-2" y="46146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Волна 68"/>
          <p:cNvSpPr/>
          <p:nvPr/>
        </p:nvSpPr>
        <p:spPr>
          <a:xfrm>
            <a:off x="4067280" y="390600"/>
            <a:ext cx="619200" cy="716040"/>
          </a:xfrm>
          <a:custGeom>
            <a:avLst/>
            <a:gdLst>
              <a:gd name="textAreaLeft" fmla="*/ 0 w 619200"/>
              <a:gd name="textAreaRight" fmla="*/ 619560 w 619200"/>
              <a:gd name="textAreaTop" fmla="*/ 178920 h 716040"/>
              <a:gd name="textAreaBottom" fmla="*/ 537120 h 716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Шестиугольник 67"/>
          <p:cNvSpPr/>
          <p:nvPr/>
        </p:nvSpPr>
        <p:spPr>
          <a:xfrm>
            <a:off x="3011400" y="438120"/>
            <a:ext cx="765360" cy="641520"/>
          </a:xfrm>
          <a:prstGeom prst="hexagon">
            <a:avLst>
              <a:gd name="adj" fmla="val 24999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ятиугольник 66"/>
          <p:cNvSpPr/>
          <p:nvPr/>
        </p:nvSpPr>
        <p:spPr>
          <a:xfrm>
            <a:off x="2190600" y="411120"/>
            <a:ext cx="654120" cy="674640"/>
          </a:xfrm>
          <a:custGeom>
            <a:avLst/>
            <a:gdLst>
              <a:gd name="textAreaLeft" fmla="*/ 0 w 654120"/>
              <a:gd name="textAreaRight" fmla="*/ 654480 w 6541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ирог 64"/>
          <p:cNvSpPr/>
          <p:nvPr/>
        </p:nvSpPr>
        <p:spPr>
          <a:xfrm>
            <a:off x="1227240" y="444600"/>
            <a:ext cx="660240" cy="641160"/>
          </a:xfrm>
          <a:custGeom>
            <a:avLst/>
            <a:gdLst/>
            <a:ahLst/>
            <a:rect l="l" t="t" r="r" b="b"/>
            <a:pathLst>
              <a:path w="660400" h="641350">
                <a:moveTo>
                  <a:pt x="649044" y="404052"/>
                </a:moveTo>
                <a:cubicBezTo>
                  <a:pt x="604860" y="563409"/>
                  <a:pt x="443349" y="664178"/>
                  <a:pt x="275741" y="636959"/>
                </a:cubicBezTo>
                <a:cubicBezTo>
                  <a:pt x="105705" y="609346"/>
                  <a:pt x="-13841" y="459344"/>
                  <a:pt x="1271" y="292564"/>
                </a:cubicBezTo>
                <a:cubicBezTo>
                  <a:pt x="16274" y="126995"/>
                  <a:pt x="159054" y="0"/>
                  <a:pt x="330200" y="0"/>
                </a:cubicBezTo>
                <a:lnTo>
                  <a:pt x="330200" y="320675"/>
                </a:lnTo>
                <a:lnTo>
                  <a:pt x="649044" y="40405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Группа 60"/>
          <p:cNvGrpSpPr/>
          <p:nvPr/>
        </p:nvGrpSpPr>
        <p:grpSpPr>
          <a:xfrm>
            <a:off x="1215720" y="411120"/>
            <a:ext cx="6980400" cy="3229560"/>
            <a:chOff x="1215720" y="411120"/>
            <a:chExt cx="6980400" cy="3229560"/>
          </a:xfrm>
        </p:grpSpPr>
        <p:sp>
          <p:nvSpPr>
            <p:cNvPr id="70" name="Прямоугольник 3"/>
            <p:cNvSpPr/>
            <p:nvPr/>
          </p:nvSpPr>
          <p:spPr>
            <a:xfrm>
              <a:off x="3054240" y="1417680"/>
              <a:ext cx="720720" cy="360360"/>
            </a:xfrm>
            <a:prstGeom prst="rect">
              <a:avLst/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6"/>
            <p:cNvSpPr/>
            <p:nvPr/>
          </p:nvSpPr>
          <p:spPr>
            <a:xfrm>
              <a:off x="4678200" y="1425600"/>
              <a:ext cx="1260360" cy="35856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7"/>
            <p:cNvSpPr/>
            <p:nvPr/>
          </p:nvSpPr>
          <p:spPr>
            <a:xfrm>
              <a:off x="1755720" y="2927520"/>
              <a:ext cx="1081080" cy="36036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оугольник 9"/>
            <p:cNvSpPr/>
            <p:nvPr/>
          </p:nvSpPr>
          <p:spPr>
            <a:xfrm>
              <a:off x="3033720" y="2927520"/>
              <a:ext cx="360360" cy="360360"/>
            </a:xfrm>
            <a:prstGeom prst="rect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оугольник 11"/>
            <p:cNvSpPr/>
            <p:nvPr/>
          </p:nvSpPr>
          <p:spPr>
            <a:xfrm>
              <a:off x="4991040" y="2940120"/>
              <a:ext cx="539640" cy="3603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12"/>
            <p:cNvSpPr/>
            <p:nvPr/>
          </p:nvSpPr>
          <p:spPr>
            <a:xfrm>
              <a:off x="1218960" y="1425600"/>
              <a:ext cx="539640" cy="35856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5"/>
            <p:cNvSpPr/>
            <p:nvPr/>
          </p:nvSpPr>
          <p:spPr>
            <a:xfrm>
              <a:off x="3751200" y="2930760"/>
              <a:ext cx="1260360" cy="360360"/>
            </a:xfrm>
            <a:prstGeom prst="rect">
              <a:avLst/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14"/>
            <p:cNvSpPr/>
            <p:nvPr/>
          </p:nvSpPr>
          <p:spPr>
            <a:xfrm>
              <a:off x="3774960" y="1415880"/>
              <a:ext cx="900000" cy="3603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15"/>
            <p:cNvSpPr/>
            <p:nvPr/>
          </p:nvSpPr>
          <p:spPr>
            <a:xfrm>
              <a:off x="1780920" y="1422360"/>
              <a:ext cx="1260360" cy="358560"/>
            </a:xfrm>
            <a:prstGeom prst="rect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16"/>
            <p:cNvSpPr/>
            <p:nvPr/>
          </p:nvSpPr>
          <p:spPr>
            <a:xfrm>
              <a:off x="5938920" y="2922840"/>
              <a:ext cx="720720" cy="36036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ая соединительная линия 19"/>
            <p:cNvSpPr/>
            <p:nvPr/>
          </p:nvSpPr>
          <p:spPr>
            <a:xfrm>
              <a:off x="1768320" y="1784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ая соединительная линия 23"/>
            <p:cNvSpPr/>
            <p:nvPr/>
          </p:nvSpPr>
          <p:spPr>
            <a:xfrm>
              <a:off x="5005440" y="177480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ая соединительная линия 24"/>
            <p:cNvSpPr/>
            <p:nvPr/>
          </p:nvSpPr>
          <p:spPr>
            <a:xfrm>
              <a:off x="3041640" y="178128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ая соединительная линия 25"/>
            <p:cNvSpPr/>
            <p:nvPr/>
          </p:nvSpPr>
          <p:spPr>
            <a:xfrm>
              <a:off x="3774960" y="1784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ая соединительная линия 26"/>
            <p:cNvSpPr/>
            <p:nvPr/>
          </p:nvSpPr>
          <p:spPr>
            <a:xfrm>
              <a:off x="3389400" y="1784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Прямая соединительная линия 27"/>
            <p:cNvSpPr/>
            <p:nvPr/>
          </p:nvSpPr>
          <p:spPr>
            <a:xfrm>
              <a:off x="2836800" y="177624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28"/>
            <p:cNvSpPr/>
            <p:nvPr/>
          </p:nvSpPr>
          <p:spPr>
            <a:xfrm>
              <a:off x="4675320" y="1784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Прямая соединительная линия 29"/>
            <p:cNvSpPr/>
            <p:nvPr/>
          </p:nvSpPr>
          <p:spPr>
            <a:xfrm>
              <a:off x="5524560" y="1757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рямая соединительная линия 30"/>
            <p:cNvSpPr/>
            <p:nvPr/>
          </p:nvSpPr>
          <p:spPr>
            <a:xfrm>
              <a:off x="5932440" y="1757520"/>
              <a:ext cx="0" cy="1146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рямая соединительная линия 31"/>
            <p:cNvSpPr/>
            <p:nvPr/>
          </p:nvSpPr>
          <p:spPr>
            <a:xfrm>
              <a:off x="1218960" y="1784520"/>
              <a:ext cx="0" cy="1498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0" name="Прямая со стрелкой 36"/>
            <p:cNvCxnSpPr/>
            <p:nvPr/>
          </p:nvCxnSpPr>
          <p:spPr>
            <a:xfrm>
              <a:off x="1218600" y="3282840"/>
              <a:ext cx="6350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Прямая со стрелкой 37"/>
            <p:cNvCxnSpPr/>
            <p:nvPr/>
          </p:nvCxnSpPr>
          <p:spPr>
            <a:xfrm>
              <a:off x="1215720" y="1775880"/>
              <a:ext cx="6280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" name="Прямоугольник 41"/>
            <p:cNvSpPr/>
            <p:nvPr/>
          </p:nvSpPr>
          <p:spPr>
            <a:xfrm>
              <a:off x="7587000" y="293724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Прямоугольник 45"/>
            <p:cNvSpPr/>
            <p:nvPr/>
          </p:nvSpPr>
          <p:spPr>
            <a:xfrm>
              <a:off x="7499880" y="149112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Прямоугольник 47"/>
            <p:cNvSpPr/>
            <p:nvPr/>
          </p:nvSpPr>
          <p:spPr>
            <a:xfrm>
              <a:off x="1218960" y="41112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Прямоугольник 48"/>
            <p:cNvSpPr/>
            <p:nvPr/>
          </p:nvSpPr>
          <p:spPr>
            <a:xfrm>
              <a:off x="2186640" y="41112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Прямоугольник 49"/>
            <p:cNvSpPr/>
            <p:nvPr/>
          </p:nvSpPr>
          <p:spPr>
            <a:xfrm>
              <a:off x="3153960" y="41112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Прямоугольник 50"/>
            <p:cNvSpPr/>
            <p:nvPr/>
          </p:nvSpPr>
          <p:spPr>
            <a:xfrm>
              <a:off x="4122360" y="41112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7933c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Прямоугольник 51"/>
            <p:cNvSpPr/>
            <p:nvPr/>
          </p:nvSpPr>
          <p:spPr>
            <a:xfrm>
              <a:off x="5089320" y="41112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46c0a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900000" y="3860640"/>
          <a:ext cx="7344000" cy="2494080"/>
        </p:xfrm>
        <a:graphic>
          <a:graphicData uri="http://schemas.openxmlformats.org/drawingml/2006/table">
            <a:tbl>
              <a:tblPr/>
              <a:tblGrid>
                <a:gridCol w="1836720"/>
                <a:gridCol w="2051280"/>
                <a:gridCol w="2087640"/>
                <a:gridCol w="136836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обрабо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-м ста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2-м ста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ой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го ст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62"/>
          <p:cNvSpPr/>
          <p:nvPr/>
        </p:nvSpPr>
        <p:spPr>
          <a:xfrm>
            <a:off x="1227240" y="13352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           7          4       5          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3"/>
          <p:cNvSpPr/>
          <p:nvPr/>
        </p:nvSpPr>
        <p:spPr>
          <a:xfrm>
            <a:off x="2036880" y="28414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          2          7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3      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"/>
          <p:cNvSpPr/>
          <p:nvPr/>
        </p:nvSpPr>
        <p:spPr>
          <a:xfrm>
            <a:off x="966960" y="133200"/>
            <a:ext cx="72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Решение задачи с помощью алгоритма Джонс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792000" y="3287880"/>
            <a:ext cx="1225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войные круглые скобки 7"/>
          <p:cNvSpPr/>
          <p:nvPr/>
        </p:nvSpPr>
        <p:spPr>
          <a:xfrm>
            <a:off x="2044800" y="1979640"/>
            <a:ext cx="2054160" cy="3313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68360" y="2025720"/>
          <a:ext cx="1606680" cy="3244680"/>
        </p:xfrm>
        <a:graphic>
          <a:graphicData uri="http://schemas.openxmlformats.org/drawingml/2006/table">
            <a:tbl>
              <a:tblPr/>
              <a:tblGrid>
                <a:gridCol w="527400"/>
                <a:gridCol w="576000"/>
                <a:gridCol w="503280"/>
              </a:tblGrid>
              <a:tr h="68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9"/>
          <p:cNvSpPr/>
          <p:nvPr/>
        </p:nvSpPr>
        <p:spPr>
          <a:xfrm>
            <a:off x="4427640" y="3176640"/>
            <a:ext cx="1512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посл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войные круглые скобки 10"/>
          <p:cNvSpPr/>
          <p:nvPr/>
        </p:nvSpPr>
        <p:spPr>
          <a:xfrm>
            <a:off x="6087960" y="1873080"/>
            <a:ext cx="2089080" cy="33134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300720" y="2006640"/>
          <a:ext cx="1608120" cy="3200400"/>
        </p:xfrm>
        <a:graphic>
          <a:graphicData uri="http://schemas.openxmlformats.org/drawingml/2006/table">
            <a:tbl>
              <a:tblPr/>
              <a:tblGrid>
                <a:gridCol w="527040"/>
                <a:gridCol w="576360"/>
                <a:gridCol w="5047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1"/>
          <p:cNvSpPr/>
          <p:nvPr/>
        </p:nvSpPr>
        <p:spPr>
          <a:xfrm>
            <a:off x="4500720" y="1484280"/>
            <a:ext cx="395892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826920" y="4005360"/>
          <a:ext cx="7345440" cy="2493720"/>
        </p:xfrm>
        <a:graphic>
          <a:graphicData uri="http://schemas.openxmlformats.org/drawingml/2006/table">
            <a:tbl>
              <a:tblPr/>
              <a:tblGrid>
                <a:gridCol w="1837080"/>
                <a:gridCol w="2052360"/>
                <a:gridCol w="2087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обрабо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-м ста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2-м стан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ой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го ст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Прямоугольник 114"/>
          <p:cNvSpPr/>
          <p:nvPr/>
        </p:nvSpPr>
        <p:spPr>
          <a:xfrm>
            <a:off x="1479600" y="1546200"/>
            <a:ext cx="720720" cy="36036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15"/>
          <p:cNvSpPr/>
          <p:nvPr/>
        </p:nvSpPr>
        <p:spPr>
          <a:xfrm>
            <a:off x="2198520" y="1557360"/>
            <a:ext cx="1260720" cy="3603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17"/>
          <p:cNvSpPr/>
          <p:nvPr/>
        </p:nvSpPr>
        <p:spPr>
          <a:xfrm>
            <a:off x="5613480" y="3048120"/>
            <a:ext cx="360360" cy="360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18"/>
          <p:cNvSpPr/>
          <p:nvPr/>
        </p:nvSpPr>
        <p:spPr>
          <a:xfrm>
            <a:off x="4540320" y="3060720"/>
            <a:ext cx="539640" cy="3589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19"/>
          <p:cNvSpPr/>
          <p:nvPr/>
        </p:nvSpPr>
        <p:spPr>
          <a:xfrm>
            <a:off x="939960" y="1535040"/>
            <a:ext cx="53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21"/>
          <p:cNvSpPr/>
          <p:nvPr/>
        </p:nvSpPr>
        <p:spPr>
          <a:xfrm>
            <a:off x="3460680" y="1566720"/>
            <a:ext cx="900360" cy="360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22"/>
          <p:cNvSpPr/>
          <p:nvPr/>
        </p:nvSpPr>
        <p:spPr>
          <a:xfrm>
            <a:off x="4365720" y="1568520"/>
            <a:ext cx="1258920" cy="360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ая соединительная линия 132"/>
          <p:cNvSpPr/>
          <p:nvPr/>
        </p:nvSpPr>
        <p:spPr>
          <a:xfrm>
            <a:off x="5619600" y="1928880"/>
            <a:ext cx="0" cy="1146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136"/>
          <p:cNvSpPr/>
          <p:nvPr/>
        </p:nvSpPr>
        <p:spPr>
          <a:xfrm>
            <a:off x="7310520" y="3075120"/>
            <a:ext cx="6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137"/>
          <p:cNvSpPr/>
          <p:nvPr/>
        </p:nvSpPr>
        <p:spPr>
          <a:xfrm>
            <a:off x="7223040" y="1628640"/>
            <a:ext cx="6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161"/>
          <p:cNvGrpSpPr/>
          <p:nvPr/>
        </p:nvGrpSpPr>
        <p:grpSpPr>
          <a:xfrm>
            <a:off x="915840" y="574560"/>
            <a:ext cx="660600" cy="703440"/>
            <a:chOff x="915840" y="574560"/>
            <a:chExt cx="660600" cy="703440"/>
          </a:xfrm>
        </p:grpSpPr>
        <p:sp>
          <p:nvSpPr>
            <p:cNvPr id="122" name="Пирог 107"/>
            <p:cNvSpPr/>
            <p:nvPr/>
          </p:nvSpPr>
          <p:spPr>
            <a:xfrm>
              <a:off x="915840" y="607680"/>
              <a:ext cx="660600" cy="640080"/>
            </a:xfrm>
            <a:custGeom>
              <a:avLst/>
              <a:gdLst/>
              <a:ahLst/>
              <a:rect l="l" t="t" r="r" b="b"/>
              <a:pathLst>
                <a:path w="660425" h="641073">
                  <a:moveTo>
                    <a:pt x="649058" y="403914"/>
                  </a:moveTo>
                  <a:cubicBezTo>
                    <a:pt x="604860" y="563175"/>
                    <a:pt x="443368" y="663879"/>
                    <a:pt x="275775" y="636688"/>
                  </a:cubicBezTo>
                  <a:cubicBezTo>
                    <a:pt x="105715" y="609097"/>
                    <a:pt x="-13851" y="459146"/>
                    <a:pt x="1271" y="292424"/>
                  </a:cubicBezTo>
                  <a:cubicBezTo>
                    <a:pt x="16281" y="126932"/>
                    <a:pt x="159064" y="-1"/>
                    <a:pt x="330212" y="-1"/>
                  </a:cubicBezTo>
                  <a:cubicBezTo>
                    <a:pt x="330212" y="106845"/>
                    <a:pt x="330213" y="213691"/>
                    <a:pt x="330213" y="320537"/>
                  </a:cubicBezTo>
                  <a:lnTo>
                    <a:pt x="649058" y="40391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Прямоугольник 138"/>
            <p:cNvSpPr/>
            <p:nvPr/>
          </p:nvSpPr>
          <p:spPr>
            <a:xfrm>
              <a:off x="915840" y="57456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Группа 157"/>
          <p:cNvGrpSpPr/>
          <p:nvPr/>
        </p:nvGrpSpPr>
        <p:grpSpPr>
          <a:xfrm>
            <a:off x="4668840" y="517680"/>
            <a:ext cx="652320" cy="723600"/>
            <a:chOff x="4668840" y="517680"/>
            <a:chExt cx="652320" cy="723600"/>
          </a:xfrm>
        </p:grpSpPr>
        <p:sp>
          <p:nvSpPr>
            <p:cNvPr id="125" name="Пятиугольник 108"/>
            <p:cNvSpPr/>
            <p:nvPr/>
          </p:nvSpPr>
          <p:spPr>
            <a:xfrm>
              <a:off x="4668840" y="566640"/>
              <a:ext cx="652320" cy="6746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139"/>
            <p:cNvSpPr/>
            <p:nvPr/>
          </p:nvSpPr>
          <p:spPr>
            <a:xfrm>
              <a:off x="4672080" y="5176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76092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Группа 158"/>
          <p:cNvGrpSpPr/>
          <p:nvPr/>
        </p:nvGrpSpPr>
        <p:grpSpPr>
          <a:xfrm>
            <a:off x="1579680" y="571680"/>
            <a:ext cx="763560" cy="703440"/>
            <a:chOff x="1579680" y="571680"/>
            <a:chExt cx="763560" cy="703440"/>
          </a:xfrm>
        </p:grpSpPr>
        <p:sp>
          <p:nvSpPr>
            <p:cNvPr id="128" name="Шестиугольник 109"/>
            <p:cNvSpPr/>
            <p:nvPr/>
          </p:nvSpPr>
          <p:spPr>
            <a:xfrm>
              <a:off x="1579680" y="592200"/>
              <a:ext cx="763560" cy="642960"/>
            </a:xfrm>
            <a:prstGeom prst="hexagon">
              <a:avLst>
                <a:gd name="adj" fmla="val 24950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140"/>
            <p:cNvSpPr/>
            <p:nvPr/>
          </p:nvSpPr>
          <p:spPr>
            <a:xfrm>
              <a:off x="1770120" y="5716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Группа 159"/>
          <p:cNvGrpSpPr/>
          <p:nvPr/>
        </p:nvGrpSpPr>
        <p:grpSpPr>
          <a:xfrm>
            <a:off x="3600360" y="525600"/>
            <a:ext cx="619200" cy="745920"/>
            <a:chOff x="3600360" y="525600"/>
            <a:chExt cx="619200" cy="745920"/>
          </a:xfrm>
        </p:grpSpPr>
        <p:sp>
          <p:nvSpPr>
            <p:cNvPr id="131" name="Волна 110"/>
            <p:cNvSpPr/>
            <p:nvPr/>
          </p:nvSpPr>
          <p:spPr>
            <a:xfrm>
              <a:off x="3600360" y="554040"/>
              <a:ext cx="619200" cy="71748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179280 h 717480"/>
                <a:gd name="textAreaBottom" fmla="*/ 53820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Прямоугольник 141"/>
            <p:cNvSpPr/>
            <p:nvPr/>
          </p:nvSpPr>
          <p:spPr>
            <a:xfrm>
              <a:off x="3675600" y="52560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7933c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Группа 160"/>
          <p:cNvGrpSpPr/>
          <p:nvPr/>
        </p:nvGrpSpPr>
        <p:grpSpPr>
          <a:xfrm>
            <a:off x="2558880" y="509760"/>
            <a:ext cx="855720" cy="739440"/>
            <a:chOff x="2558880" y="509760"/>
            <a:chExt cx="855720" cy="739440"/>
          </a:xfrm>
        </p:grpSpPr>
        <p:sp>
          <p:nvSpPr>
            <p:cNvPr id="134" name="7-конечная звезда 111"/>
            <p:cNvSpPr/>
            <p:nvPr/>
          </p:nvSpPr>
          <p:spPr>
            <a:xfrm>
              <a:off x="2558880" y="531720"/>
              <a:ext cx="855720" cy="717480"/>
            </a:xfrm>
            <a:custGeom>
              <a:avLst/>
              <a:gdLst/>
              <a:ahLst/>
              <a:rect l="l" t="t" r="r" b="b"/>
              <a:pathLst>
                <a:path w="854624" h="717160">
                  <a:moveTo>
                    <a:pt x="-2" y="461210"/>
                  </a:moveTo>
                  <a:lnTo>
                    <a:pt x="131602" y="319168"/>
                  </a:lnTo>
                  <a:lnTo>
                    <a:pt x="84634" y="142043"/>
                  </a:lnTo>
                  <a:lnTo>
                    <a:pt x="295710" y="142043"/>
                  </a:lnTo>
                  <a:lnTo>
                    <a:pt x="427312" y="0"/>
                  </a:lnTo>
                  <a:lnTo>
                    <a:pt x="558914" y="142043"/>
                  </a:lnTo>
                  <a:lnTo>
                    <a:pt x="769990" y="142043"/>
                  </a:lnTo>
                  <a:lnTo>
                    <a:pt x="723022" y="319168"/>
                  </a:lnTo>
                  <a:lnTo>
                    <a:pt x="854626" y="461210"/>
                  </a:lnTo>
                  <a:lnTo>
                    <a:pt x="664452" y="540038"/>
                  </a:lnTo>
                  <a:lnTo>
                    <a:pt x="617483" y="717164"/>
                  </a:lnTo>
                  <a:lnTo>
                    <a:pt x="427312" y="638335"/>
                  </a:lnTo>
                  <a:lnTo>
                    <a:pt x="237141" y="717164"/>
                  </a:lnTo>
                  <a:lnTo>
                    <a:pt x="190172" y="540038"/>
                  </a:lnTo>
                  <a:lnTo>
                    <a:pt x="-2" y="46121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оугольник 142"/>
            <p:cNvSpPr/>
            <p:nvPr/>
          </p:nvSpPr>
          <p:spPr>
            <a:xfrm>
              <a:off x="2767680" y="50976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46c0a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Группа 156"/>
          <p:cNvGrpSpPr/>
          <p:nvPr/>
        </p:nvGrpSpPr>
        <p:grpSpPr>
          <a:xfrm>
            <a:off x="939600" y="1432080"/>
            <a:ext cx="6351840" cy="2067480"/>
            <a:chOff x="939600" y="1432080"/>
            <a:chExt cx="6351840" cy="2067480"/>
          </a:xfrm>
        </p:grpSpPr>
        <p:grpSp>
          <p:nvGrpSpPr>
            <p:cNvPr id="137" name="Группа 155"/>
            <p:cNvGrpSpPr/>
            <p:nvPr/>
          </p:nvGrpSpPr>
          <p:grpSpPr>
            <a:xfrm>
              <a:off x="939600" y="1502640"/>
              <a:ext cx="6351840" cy="1926720"/>
              <a:chOff x="939600" y="1502640"/>
              <a:chExt cx="6351840" cy="1926720"/>
            </a:xfrm>
          </p:grpSpPr>
          <p:sp>
            <p:nvSpPr>
              <p:cNvPr id="138" name="Прямоугольник 116"/>
              <p:cNvSpPr/>
              <p:nvPr/>
            </p:nvSpPr>
            <p:spPr>
              <a:xfrm>
                <a:off x="1479600" y="3066120"/>
                <a:ext cx="1081080" cy="360000"/>
              </a:xfrm>
              <a:prstGeom prst="rect">
                <a:avLst/>
              </a:prstGeom>
              <a:solidFill>
                <a:srgbClr val="c0504d"/>
              </a:solidFill>
              <a:ln w="2556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Прямоугольник 120"/>
              <p:cNvSpPr/>
              <p:nvPr/>
            </p:nvSpPr>
            <p:spPr>
              <a:xfrm>
                <a:off x="2560680" y="3069360"/>
                <a:ext cx="1258920" cy="360000"/>
              </a:xfrm>
              <a:prstGeom prst="rect">
                <a:avLst/>
              </a:prstGeom>
              <a:solidFill>
                <a:srgbClr val="8064a2"/>
              </a:solidFill>
              <a:ln w="25560">
                <a:solidFill>
                  <a:srgbClr val="5c47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Прямоугольник 123"/>
              <p:cNvSpPr/>
              <p:nvPr/>
            </p:nvSpPr>
            <p:spPr>
              <a:xfrm>
                <a:off x="3805200" y="3069360"/>
                <a:ext cx="718920" cy="360000"/>
              </a:xfrm>
              <a:prstGeom prst="rect">
                <a:avLst/>
              </a:prstGeom>
              <a:solidFill>
                <a:srgbClr val="f79646"/>
              </a:solidFill>
              <a:ln w="25560">
                <a:solidFill>
                  <a:srgbClr val="b66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Прямая соединительная линия 124"/>
              <p:cNvSpPr/>
              <p:nvPr/>
            </p:nvSpPr>
            <p:spPr>
              <a:xfrm>
                <a:off x="1492200" y="192312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Прямая соединительная линия 125"/>
              <p:cNvSpPr/>
              <p:nvPr/>
            </p:nvSpPr>
            <p:spPr>
              <a:xfrm>
                <a:off x="4540320" y="191196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Прямая соединительная линия 127"/>
              <p:cNvSpPr/>
              <p:nvPr/>
            </p:nvSpPr>
            <p:spPr>
              <a:xfrm>
                <a:off x="3819600" y="189612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Прямая соединительная линия 128"/>
              <p:cNvSpPr/>
              <p:nvPr/>
            </p:nvSpPr>
            <p:spPr>
              <a:xfrm>
                <a:off x="3459240" y="191196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Прямая соединительная линия 129"/>
              <p:cNvSpPr/>
              <p:nvPr/>
            </p:nvSpPr>
            <p:spPr>
              <a:xfrm>
                <a:off x="2198880" y="192960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Прямая соединительная линия 130"/>
              <p:cNvSpPr/>
              <p:nvPr/>
            </p:nvSpPr>
            <p:spPr>
              <a:xfrm>
                <a:off x="4361040" y="192312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Прямая соединительная линия 131"/>
              <p:cNvSpPr/>
              <p:nvPr/>
            </p:nvSpPr>
            <p:spPr>
              <a:xfrm>
                <a:off x="5077080" y="191196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Прямая соединительная линия 133"/>
              <p:cNvSpPr/>
              <p:nvPr/>
            </p:nvSpPr>
            <p:spPr>
              <a:xfrm>
                <a:off x="942840" y="1923120"/>
                <a:ext cx="0" cy="149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49" name="Прямая со стрелкой 134"/>
              <p:cNvCxnSpPr/>
              <p:nvPr/>
            </p:nvCxnSpPr>
            <p:spPr>
              <a:xfrm>
                <a:off x="942480" y="3419640"/>
                <a:ext cx="63493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Прямая со стрелкой 135"/>
              <p:cNvCxnSpPr/>
              <p:nvPr/>
            </p:nvCxnSpPr>
            <p:spPr>
              <a:xfrm>
                <a:off x="939600" y="1913400"/>
                <a:ext cx="62809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1" name="Прямая соединительная линия 146"/>
              <p:cNvSpPr/>
              <p:nvPr/>
            </p:nvSpPr>
            <p:spPr>
              <a:xfrm>
                <a:off x="2559240" y="189612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Прямоугольник 147"/>
              <p:cNvSpPr/>
              <p:nvPr/>
            </p:nvSpPr>
            <p:spPr>
              <a:xfrm>
                <a:off x="1479600" y="1513440"/>
                <a:ext cx="720720" cy="360000"/>
              </a:xfrm>
              <a:prstGeom prst="rect">
                <a:avLst/>
              </a:prstGeom>
              <a:solidFill>
                <a:srgbClr val="8064a2"/>
              </a:solidFill>
              <a:ln w="25560">
                <a:solidFill>
                  <a:srgbClr val="5c47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Прямоугольник 148"/>
              <p:cNvSpPr/>
              <p:nvPr/>
            </p:nvSpPr>
            <p:spPr>
              <a:xfrm>
                <a:off x="2198880" y="1524600"/>
                <a:ext cx="1260360" cy="360000"/>
              </a:xfrm>
              <a:prstGeom prst="rect">
                <a:avLst/>
              </a:prstGeom>
              <a:solidFill>
                <a:srgbClr val="f79646"/>
              </a:solidFill>
              <a:ln w="25560">
                <a:solidFill>
                  <a:srgbClr val="b66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Прямоугольник 149"/>
              <p:cNvSpPr/>
              <p:nvPr/>
            </p:nvSpPr>
            <p:spPr>
              <a:xfrm>
                <a:off x="5613480" y="3015360"/>
                <a:ext cx="358560" cy="36000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357d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Прямоугольник 151"/>
              <p:cNvSpPr/>
              <p:nvPr/>
            </p:nvSpPr>
            <p:spPr>
              <a:xfrm>
                <a:off x="939960" y="1502640"/>
                <a:ext cx="539640" cy="360000"/>
              </a:xfrm>
              <a:prstGeom prst="rect">
                <a:avLst/>
              </a:prstGeom>
              <a:solidFill>
                <a:srgbClr val="c0504d"/>
              </a:solidFill>
              <a:ln w="25560">
                <a:solidFill>
                  <a:srgbClr val="8c38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Прямоугольник 152"/>
              <p:cNvSpPr/>
              <p:nvPr/>
            </p:nvSpPr>
            <p:spPr>
              <a:xfrm>
                <a:off x="3460680" y="1532520"/>
                <a:ext cx="900000" cy="360000"/>
              </a:xfrm>
              <a:prstGeom prst="rect">
                <a:avLst/>
              </a:prstGeom>
              <a:solidFill>
                <a:srgbClr val="9bbb59"/>
              </a:solidFill>
              <a:ln w="25560">
                <a:solidFill>
                  <a:srgbClr val="7189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Прямоугольник 153"/>
              <p:cNvSpPr/>
              <p:nvPr/>
            </p:nvSpPr>
            <p:spPr>
              <a:xfrm>
                <a:off x="4364280" y="1535760"/>
                <a:ext cx="1260360" cy="36000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357d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Прямая соединительная линия 154"/>
              <p:cNvSpPr/>
              <p:nvPr/>
            </p:nvSpPr>
            <p:spPr>
              <a:xfrm>
                <a:off x="5618160" y="1896120"/>
                <a:ext cx="0" cy="11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Box 144"/>
            <p:cNvSpPr/>
            <p:nvPr/>
          </p:nvSpPr>
          <p:spPr>
            <a:xfrm>
              <a:off x="1078560" y="1432080"/>
              <a:ext cx="46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5           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45"/>
            <p:cNvSpPr/>
            <p:nvPr/>
          </p:nvSpPr>
          <p:spPr>
            <a:xfrm>
              <a:off x="1767240" y="2979000"/>
              <a:ext cx="46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7:57:58Z</dcterms:created>
  <dc:creator>Андрей</dc:creator>
  <dc:description/>
  <dc:language>en-US</dc:language>
  <cp:lastModifiedBy>Ольга Алексеевна</cp:lastModifiedBy>
  <dcterms:modified xsi:type="dcterms:W3CDTF">2020-01-24T07:02:41Z</dcterms:modified>
  <cp:revision>47</cp:revision>
  <dc:subject/>
  <dc:title>Презентация PowerPoint</dc:title>
</cp:coreProperties>
</file>